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4A6-FC42-456C-BAAE-5A7A3C94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75F-AE0D-4869-914A-D591D376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A6A-DCF6-4F16-AA6F-7942021E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91F-D821-43FB-A4EF-4F2F6228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8BA-3D97-4C77-841B-B840F0BC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5A2-9E65-46EE-A994-6D66C43A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DBE-B2F3-417B-A2C0-B0E76B67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46B-812D-42D5-828A-BF2BC59D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04A-F763-42BE-9388-63FAA749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BC7-8052-4825-847F-5979CABB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D10-7994-4411-B09D-80325211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0CA-F182-493E-BE32-58AA16D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C407-6161-46C4-A4D6-AE9608C4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cc99"/>
                </a:solidFill>
                <a:latin typeface="Monotype Corsiva"/>
              </a:rPr>
              <a:t>O zi ploioasa la INM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579096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Monotype Corsiva"/>
              </a:rPr>
              <a:t>Scoala cu clasele I-VIII “Elena Vacarescu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SCOPUL VIZIT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Familiarizarea elevilor cu metode de masurare a temperaturii si presiunii atmosferice  si constientizarea efectelor nocive pe care le are poluarea asupra mediu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05160" y="152280"/>
            <a:ext cx="3733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OBIECT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61722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Colectarea de informatii referitoare la temperatura, presiune si nivel de precipitatii, pe parcursul a patru saptama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Imbogatirea  cunostintelor elevilor cu privire la temperatura, presiune, unitati de masura si simboluri meteorolog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Masurarea de catre elevi a temperaturii aerului utilizand indicatiile meteorologului de la instit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Elevii particip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2209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Nicolae Andrei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Tibăr Teo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Broştiuc Andre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Luntraru Cătă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Olaru Ma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Baba Co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un Cri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Nicorescu Ruxan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Simedre Crist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Selea Alexand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Pascale Di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Gheorghiu Lu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Abdulamit Sa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Zaharia Mir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Nicolescu Brist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Ţigănuş Rox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</a:rPr>
              <a:t>Ciminian Ana/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Monotype Corsiva"/>
              </a:rPr>
              <a:t>Activitati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In aceasta vizita elevii au putut vedea metode prin care se masoara temperatura aerului, temperatura solului si au vizionat poze realizate tarii noastre prin satelit .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Meteorologul le-a prezentat harti si modul in care acesta ii ajuta in interpretarea date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Evalua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Elevii vor urmari buletinele meteo si vor realiza un tabel al variatiei temperaturii si presiun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Utilizand datele din tabel vor realiza cu ajutorul aplicatiei Microsoft Excel graficele variatiei temperaturii pentru municipiul Bucurest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Concluzi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peram ca in urma acestei vizite elevii si-au imbogatit cunostintele referitoare la notiunile: temperatura, presiune, harti meteorologice, curenti de aer etc, notiuni pe care le vor intalni pe parcursul viet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Elevii au observat ca poluarea joaca un rol foarte important in schimbarile clima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ut</cp:lastModifiedBy>
  <dcterms:modified xsi:type="dcterms:W3CDTF">2009-11-25T04:43:19Z</dcterms:modified>
  <cp:revision>6</cp:revision>
  <dc:subject/>
  <dc:title>O zi ploioasa la INMH</dc:title>
</cp:coreProperties>
</file>